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9C2-9BD8-4D43-92E9-1E0AE44B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C18-3CD4-4D15-A9BE-44C9D608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CB8-80A7-4919-B45F-7B8D0B6F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9FC-C91A-4033-812A-02E3DC9B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3F4-AE27-4CA6-939C-600A9603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503-C0C5-4655-95B2-6CE5B43D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964-8932-4641-9E3A-4FE7A793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6F6-01D8-46CD-A8C0-D5A4C285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AAE-B732-4C47-957D-5B1EE1B3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5F5-4740-463F-A142-AD9370A8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272-33BA-4280-8BFE-C4C1FB53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3E6-C129-4C0C-AF51-16E49DD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F190-6960-4D08-9F8E-FFAF9FD3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2590560"/>
            <a:ext cx="6324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OMBATING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ORRUPTION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IN MONTENEGR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548640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ja Calo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S Executiv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806560" y="203040"/>
            <a:ext cx="6248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SF Eurasia Network Strategy Conv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 Good Governance, and Transparency and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9 – 20 November 2014, Monteneg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76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14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S is a non-governmental organization that is devoted to fighting the problems of corruption and organized crime that affect Monteneg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76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19160" y="144792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OS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victims of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vestigating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ret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iti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onitoring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laws an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olicy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dvocating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Mobilizing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76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rcRect l="27992" t="29080" r="20893" b="11491"/>
          <a:stretch/>
        </p:blipFill>
        <p:spPr>
          <a:xfrm>
            <a:off x="1295280" y="1627200"/>
            <a:ext cx="67820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RESULTS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 NUMB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19160" y="1874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&gt; 35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 - free legal 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&gt; 170.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 – mobil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&gt; 75.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s fo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&gt; 7.5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 verdicts  - 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&gt; 80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avor of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&gt; 3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s -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&gt; 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&gt; 2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ful projects ter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-55440" y="4968720"/>
            <a:ext cx="2579400" cy="1992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408356_3057381431034_1158321373_33327582_150164373_n"/>
          <p:cNvPicPr/>
          <p:nvPr/>
        </p:nvPicPr>
        <p:blipFill>
          <a:blip r:embed="rId2"/>
          <a:stretch/>
        </p:blipFill>
        <p:spPr>
          <a:xfrm>
            <a:off x="-55440" y="3224160"/>
            <a:ext cx="2579400" cy="1908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-66600" y="-12600"/>
            <a:ext cx="258444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IMIDATION AND TH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19160" y="156384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f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ear campaigns i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1"/>
          <a:stretch/>
        </p:blipFill>
        <p:spPr>
          <a:xfrm>
            <a:off x="-36360" y="285840"/>
            <a:ext cx="2706480" cy="2060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www.novosti.rs/upload/images/2013/07/08n/reg-mans-calovic.jpg"/>
          <p:cNvPicPr/>
          <p:nvPr/>
        </p:nvPicPr>
        <p:blipFill>
          <a:blip r:embed="rId2"/>
          <a:stretch/>
        </p:blipFill>
        <p:spPr>
          <a:xfrm>
            <a:off x="-42840" y="4248000"/>
            <a:ext cx="2700360" cy="206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dan.co.me/gfx_bb/Hronika208022014.jpg"/>
          <p:cNvPicPr/>
          <p:nvPr/>
        </p:nvPicPr>
        <p:blipFill>
          <a:blip r:embed="rId3"/>
          <a:stretch/>
        </p:blipFill>
        <p:spPr>
          <a:xfrm>
            <a:off x="-36360" y="2266920"/>
            <a:ext cx="2693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638680" y="11426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RESPONS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62720" y="1676520"/>
            <a:ext cx="350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 ha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 violenc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31486" t="37823" r="24078" b="8333"/>
          <a:stretch/>
        </p:blipFill>
        <p:spPr>
          <a:xfrm>
            <a:off x="0" y="5108400"/>
            <a:ext cx="2743200" cy="1771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rcRect l="0" t="0" r="2797" b="0"/>
          <a:stretch/>
        </p:blipFill>
        <p:spPr>
          <a:xfrm>
            <a:off x="2743200" y="5118120"/>
            <a:ext cx="2819520" cy="1773360"/>
          </a:xfrm>
          <a:prstGeom prst="rect">
            <a:avLst/>
          </a:prstGeom>
          <a:ln w="0">
            <a:noFill/>
          </a:ln>
        </p:spPr>
      </p:pic>
      <p:pic>
        <p:nvPicPr>
          <p:cNvPr id="67" name="Content Placeholder 3" descr=""/>
          <p:cNvPicPr/>
          <p:nvPr/>
        </p:nvPicPr>
        <p:blipFill>
          <a:blip r:embed="rId3"/>
          <a:stretch/>
        </p:blipFill>
        <p:spPr>
          <a:xfrm>
            <a:off x="0" y="27000"/>
            <a:ext cx="5486400" cy="331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gdb.rferl.org/1D323387-4678-4DDF-8974-152F93FA5E31_mw640_mh360_s.jpg"/>
          <p:cNvPicPr/>
          <p:nvPr/>
        </p:nvPicPr>
        <p:blipFill>
          <a:blip r:embed="rId4"/>
          <a:stretch/>
        </p:blipFill>
        <p:spPr>
          <a:xfrm>
            <a:off x="2730600" y="3349800"/>
            <a:ext cx="2832120" cy="177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gdb.rferl.org/A6D43D00-407E-4E28-80A2-6000D1AABEB3_mw640_mh360_s.jpg"/>
          <p:cNvPicPr/>
          <p:nvPr/>
        </p:nvPicPr>
        <p:blipFill>
          <a:blip r:embed="rId5"/>
          <a:stretch/>
        </p:blipFill>
        <p:spPr>
          <a:xfrm>
            <a:off x="0" y="3336840"/>
            <a:ext cx="2743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520" y="2590560"/>
            <a:ext cx="6324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THANK YOU!</a:t>
            </a:r>
            <a:br>
              <a:rPr sz="4500"/>
            </a:br>
            <a:br>
              <a:rPr sz="4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vanja.calovic@mans.co.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76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21:30:52Z</dcterms:created>
  <dc:creator>PC</dc:creator>
  <dc:description/>
  <dc:language>en-US</dc:language>
  <cp:lastModifiedBy>Alisher Ilkhamov</cp:lastModifiedBy>
  <dcterms:modified xsi:type="dcterms:W3CDTF">2014-12-08T12:56:45Z</dcterms:modified>
  <cp:revision>119</cp:revision>
  <dc:subject/>
  <dc:title>Slide 1</dc:title>
</cp:coreProperties>
</file>